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F082-9B00-4796-B9BE-3B7C90AE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47DA-48C0-4D72-BEC3-6FA712FA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9F8-42F7-45F9-8156-FF68965B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5260-A86B-4A8A-9C77-84300391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3EF4-46A1-44B6-80C4-1A9D7702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B08E-174D-4131-BD76-6ADC42AA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F1BA-A2EB-42F1-8705-1DFC5BAA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23A7-B035-4173-83C3-262426B5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7A89-9169-45DD-B936-46DEC595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7E3F-BD20-4A93-A813-08AA1483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B2A2-F751-4DF9-8E1E-E6A51E3D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3354-AA03-4C2F-BCC2-C1889C0C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44D6-A062-4576-9EF8-E16906C3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E03B-8F7A-4012-9B43-979703F7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4537-216D-476D-9521-123C1601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52ED-F654-4873-9444-A8FEF40E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50A3-4660-4112-8D94-3EB9BFF6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AF6E-7C03-4432-A630-F7CED8AA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C9F0-D671-4E1D-8A40-EEC2CD06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E106-5CF2-4729-A0E8-68AB3DEC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931F-4480-4A0B-A120-36A19147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131-F737-4F5F-B39D-7EAB17B3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0BB-921E-4C2B-92E5-8D494256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B8A4-ADC0-491F-9962-A1D3212C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E9CA-30C6-439E-ABBC-BB27ADCCC8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44A8-6800-4CF6-99AE-BB3C8B8615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9.4 Areas of Regular Polygon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February 6, 2008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Definition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(associated with regular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lygons only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1" i="1" lang="en-US" sz="3300" spc="-1" strike="noStrike" u="sng">
                <a:solidFill>
                  <a:srgbClr val="000000"/>
                </a:solidFill>
                <a:uFillTx/>
                <a:latin typeface="Verdana"/>
              </a:rPr>
              <a:t>Center of a polygon</a:t>
            </a: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 – the center of its circumscribed circle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 u="sng">
                <a:solidFill>
                  <a:srgbClr val="000000"/>
                </a:solidFill>
                <a:uFillTx/>
                <a:latin typeface="Verdana"/>
              </a:rPr>
              <a:t>Radius of a polygon</a:t>
            </a: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 – the radius of its circumscribed circle, or the distance from the center to a vertex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 u="sng">
                <a:solidFill>
                  <a:srgbClr val="000000"/>
                </a:solidFill>
                <a:uFillTx/>
                <a:latin typeface="Verdana"/>
              </a:rPr>
              <a:t>Apothem of a polygon</a:t>
            </a: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 – distance from the center to any side of the polygon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343040" y="151920"/>
            <a:ext cx="48006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The center of circle A i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The center of pentagon BCDEF i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 radius of circle A i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 radius of pentagon BCDEF i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n apothem of pentagon BCDEF i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28800"/>
            <a:ext cx="3581640" cy="3505320"/>
          </a:xfrm>
          <a:prstGeom prst="ellipse">
            <a:avLst/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828800"/>
            <a:ext cx="3276360" cy="3200400"/>
          </a:xfrm>
          <a:prstGeom prst="pentagon">
            <a:avLst/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1371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952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33160" y="3047760"/>
            <a:ext cx="1600200" cy="533160"/>
          </a:xfrm>
          <a:prstGeom prst="line">
            <a:avLst/>
          </a:prstGeom>
          <a:ln w="5076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3581280"/>
            <a:ext cx="0" cy="1447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3276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3372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289548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77320" y="419112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548640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 of a regular polyg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The area of a regular polygon is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A = ½ Pa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rea  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Perimeter   apothem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043080" y="3354480"/>
            <a:ext cx="384480" cy="3016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410080" y="3428640"/>
            <a:ext cx="228600" cy="7621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248160" y="3200040"/>
            <a:ext cx="1143000" cy="10666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ere does the equation come from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1676520"/>
            <a:ext cx="3276720" cy="3352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apothem is the height of a triangle between the center and two consecutive vertices of the polygon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ou can find the area o any regular n-gon by dividing the polygon into congruent triangl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1905120"/>
            <a:ext cx="3276720" cy="2895480"/>
          </a:xfrm>
          <a:prstGeom prst="hexagon">
            <a:avLst>
              <a:gd name="adj" fmla="val 28292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3276720"/>
            <a:ext cx="76320" cy="7596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934320" y="1905120"/>
            <a:ext cx="7617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327672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934320" y="2666880"/>
            <a:ext cx="121896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01000" y="2743200"/>
            <a:ext cx="76320" cy="152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8077320" y="2819160"/>
            <a:ext cx="152280" cy="759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43800" y="2819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3200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523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3124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4800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4800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58200" y="32767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96080" y="16002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7240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51814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xagon ABCDEF with center G, radius GA, and apothem 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 1:  A regular octagon has an apothem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f 4 in.  Side length is 3.  Find its area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133720"/>
            <a:ext cx="3733560" cy="3581280"/>
          </a:xfrm>
          <a:prstGeom prst="octagon">
            <a:avLst>
              <a:gd name="adj" fmla="val 29287"/>
            </a:avLst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211480" y="2128680"/>
            <a:ext cx="758880" cy="1828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209680" y="2666520"/>
            <a:ext cx="137160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928600">
            <a:off x="3123720" y="2514600"/>
            <a:ext cx="304920" cy="3049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3352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4280" y="44956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= ½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51814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½ (24)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2971800"/>
            <a:ext cx="41911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:  Find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x 8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:  Use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x. 2:  Finding the area of a regular poly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 regular pentagon is inscribed in a circle with a side length of 7.5 and an apothem of 5.2.  Find the area of the pentagon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1676520"/>
            <a:ext cx="2743200" cy="259056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076560" cy="3086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95880" y="29718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267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477120" y="26668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3124080"/>
            <a:ext cx="8380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3124080"/>
            <a:ext cx="10666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 rot="20749200">
            <a:off x="7164000" y="3041280"/>
            <a:ext cx="609480" cy="4665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238880" y="3429000"/>
            <a:ext cx="2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1:40:37Z</dcterms:created>
  <dc:creator>Gateway_User</dc:creator>
  <dc:description/>
  <dc:language>en-US</dc:language>
  <cp:lastModifiedBy>falckj</cp:lastModifiedBy>
  <dcterms:modified xsi:type="dcterms:W3CDTF">2008-02-06T21:00:28Z</dcterms:modified>
  <cp:revision>16</cp:revision>
  <dc:subject/>
  <dc:title>11.2 Areas of Regular Polygons</dc:title>
</cp:coreProperties>
</file>